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633D-C8C1-4B59-B5DC-EF9F575E39F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26C1-BEA6-41D3-8013-6FFA3665E46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ADA9-D0C5-4D8D-9546-3FBEDE0E8F3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3169-A2E0-4537-B0DC-0C4F7EE5D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B21B-E459-434A-ACFA-6B283E35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CDA4-3659-46F5-B929-BD59A343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6CC3-B83A-44B5-BCE0-4BAEBA84C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174A-518F-4EBA-B9EC-FEC175DE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E8EB-AE29-4519-972C-53D27BD0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885B-8E00-4418-9996-6B51FBF5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DC8E-E594-4DC1-A181-13C36B06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12FC-5D5B-4FDF-AB97-0A7FCAFE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959C-DC53-4130-8FFB-40D1F3AB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D01F-4A9E-4AC9-87AC-6621C0BF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026A-FB72-46BF-AB99-F35B4774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1D48-F3A0-4E43-BA1A-A9FEDFAD5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UMTS - Security</a:t>
            </a:r>
            <a:br>
              <a:rPr sz="4800"/>
            </a:b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Stand der Standardisieru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oland Schmi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Nova Deutsche Telekom Innovationsgesell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chnologiezentrum Darmst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efan Pü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Mo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Operationen auf der USI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219320"/>
          <a:ext cx="6858000" cy="48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685800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010280" y="5195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HLR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5729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Key Fresh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41008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594360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G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22520" y="1523880"/>
          <a:ext cx="38782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2520" y="1523880"/>
                    <a:ext cx="38782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2860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U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776680" y="1523880"/>
          <a:ext cx="37764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6680" y="1523880"/>
                    <a:ext cx="37764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0492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KASUMI: Der UMTS Cipher- and Integrity Algorithm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SUMI = Jap.: Nebel (Blockchiff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schlüsselungsalgo. f8: KASUMI in OFB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iert auf der Blockchiffre MIST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Designer: M. Matsui, Mitsubish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wickelt von ETSI SAGE (07/99-10/99)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SAGE: Security Algorithm Group of Exper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aluation durch drei Teams (11/99-12/9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rt Preneel/Lars Knudsen (Leuven/Ber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cques Stern (ENS Par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ed Piper (Royal Holloway Lond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blikation erwartet unter www.etsi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Ausblick: 3G Security Work Items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P based 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bile execution environment (MexE)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sibility and config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M application secu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ud information gathering syste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catio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HE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Literaturhinwe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lker M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ecurity of 3G System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 Proc. EUROCRYPT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ity for the Third-Generation Mobile Radio System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M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British Telecom. Engineering Journal, Aug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Transport of Authentication Data in Third-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eneration Mobile Network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CQRE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Interoperation of 2G and 3G Mobile Networks,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3G2000/Mobile Communication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Überbli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- Standardisierungsgrem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Übersicht UMTS-Sicherh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inzip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rungen gegenüber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Authentikationsprotokol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Authentication and Key Agreement Protoc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2G/3G Inter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Verschlüsselungsalgorithmus KAS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s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Beteiligte Gremi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 (3rd Geneneration Partnership Pro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aufbauend auf GSM Spezifik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teiligte Organis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TSI (Europ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IB, TTC (Jap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TA (Ko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1 (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WTS (Chi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basierend auf ANSI/TIA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Security Working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gründet Februar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. Walker, Vodafone (chair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. Pütz, T-Mobil; M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vici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ucent (vice chai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tretene Parte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steller: Alcatel, Ericsson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plu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Lucent, Mitsubishi, Motorola, Nokia , Panasonic, Sie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treiber: BT, FT, ICO, MMO, NTT DoCoM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komtel, Philip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lenor, Telia, T-Mobil, 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hörden: BMWi, DTI, Re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is-Dokumen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GPP TS 33.102 UMTS Security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icherheitsprinzipien von UM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18280" cy="45514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basiert auf 2G Sicherheitsarchitek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währte 2G Sicherheitselemente wie die SIM-Karte als Sicherheitsmodul werden übernomm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verbessert die Sicherheit von 2G Syst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kannte Schwächen von 2G Systemen werden korrigier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wird neue Sicherheitsdienste ermögli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3240" y="533520"/>
            <a:ext cx="80186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rkannte Schwächen der 2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01504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ktive Attacken (“IMSI Catching”) basierend auf “False Base Station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schlüsselung endet in den Basisst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lüssel und Authentikationsdaten werden im Klartext innerhalb und zwischen Netzen übermitte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ein 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oretische Attacken auf den Verschlüsselungs-algorithmus A5/1 veröffentl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Verbesserungen durch 3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thentikation des HLRs gegenüber der U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achweis frischer Schlüssel (Key fresh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eue Algorit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128 Bit Schlüssellängen (K, CK, I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Verschlüsselung endet im R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Optionaler Die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-wide user traffic 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Authentication and Key Agreement (AKA)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219320" y="1600200"/>
          <a:ext cx="6705360" cy="49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70536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rzeugen des UMTS Authentikationsvektors im AU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66840" y="1498680"/>
          <a:ext cx="63532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1498680"/>
                    <a:ext cx="63532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3T11:20:17Z</dcterms:created>
  <dc:creator>schmitz</dc:creator>
  <dc:description/>
  <dc:language>en-US</dc:language>
  <cp:lastModifiedBy>Superuser</cp:lastModifiedBy>
  <cp:lastPrinted>2000-03-26T20:41:21Z</cp:lastPrinted>
  <dcterms:modified xsi:type="dcterms:W3CDTF">2002-04-20T19:07:24Z</dcterms:modified>
  <cp:revision>25</cp:revision>
  <dc:subject/>
  <dc:title>Secure Interoperation  of 2G and 3G Networks</dc:title>
</cp:coreProperties>
</file>